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9F7-86FB-4AA8-A105-5E04E724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894-A87D-40C6-85BB-081AED16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131-78BB-40BE-935E-F983D05F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C5A-FC52-4EB9-9E32-0CD7CD19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409A-C322-43E1-A79C-2A4FA775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6956-9683-49D4-8B88-5200DDC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ADE2-D3E0-4730-B472-E1F6985B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186E-4D8F-4509-AFE8-9DDF8491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981B-7C0A-4FF7-B70C-E5A66F15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EA0B-09E7-44D7-A07E-3FC83F57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D001-23CD-47E5-B19A-E350F2A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B25-EDB5-43F5-9366-B83213D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BD31-1339-4877-A276-FB5E8AD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6150-8383-4236-AA83-5DAD499F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A88-C858-4504-88B3-DA04CED4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B66-23A2-4C16-97A1-911FFC68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39C-C446-43FC-AD9A-D7A81EE7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9AE8-410C-447A-B2BB-397C3871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5BDF-5C2D-4EC6-A61E-0CFB9768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0220-17BB-4A01-928D-9B5A1182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B12A-DAB1-4D4A-B754-4C5DDCDC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2227E-D760-4B99-A0CB-69559D46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811-91F0-4423-8803-8B24336D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CBC4-BBE8-48AA-8DD4-2E5ED1D3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77A8F-FE3D-443A-A6FF-9AF9893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E6824-466B-4CF3-85FC-954362D9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08AF-4DD4-4BA2-8037-0E8D785A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B05A-B243-45F4-A37C-77CF30BF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F2E7-061A-4362-A054-CD9DEE24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0356-8032-4D89-8561-87816B3C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E033-C578-45CC-BD9A-3E73AAB2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538D-1FA5-4AC4-95D4-BB28635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7A31-0EE6-4F51-94DA-BA2C064E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C0BF-DB89-4753-A65D-53D33E9D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B741-69E8-4492-9F01-52FEBDB8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03C7-DB9E-483B-8813-96D8113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A1B9-A7F1-4D3A-A6FE-C1D78171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499E-A3C5-4131-9BED-BAB1C5F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F26C-4C43-4B93-9984-15DAD1A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A7B8-0D45-4067-B8B5-7873688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481FB-E1ED-4A75-85B0-7B6A9F85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314D-D57F-4311-A865-E9EEDC65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A98D0-C9CF-4B10-9109-2A9E4CB5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8B0-8F09-442D-909E-DD94B745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220-653F-4089-A0E8-F0361A8C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D52-7A29-4538-8248-6D09F415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AF1-3E09-45BC-9839-1A912F2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FAB-5C13-4CD2-9C3A-2B07D9F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FF5C-E62C-4EF1-9984-4A6E0569A0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04C7-8720-4FF0-867D-922AE7DD61B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95B-FDBF-4B71-B3BC-DEBDCA170D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B12-C931-4139-91BD-6443B16B1C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Databas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500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default quantity in the Orders table to 0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Design view of the require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variable that you want to set its default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default value in the bottom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3" descr="default.bmp"/>
          <p:cNvPicPr/>
          <p:nvPr/>
        </p:nvPicPr>
        <p:blipFill>
          <a:blip r:embed="rId1"/>
          <a:stretch/>
        </p:blipFill>
        <p:spPr>
          <a:xfrm>
            <a:off x="1752480" y="4191120"/>
            <a:ext cx="5634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records to the products tabl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089 , PName: Bath Salts, PurchaseDate: 10/20/2008, Supplier: Bath and Beyond, PurchasePricePerPiece: $2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8 , PName: Shower Gel, PurchaseDate: 10/1/2008, Supplier: Lush, PurchasePricePerPiece: $4.50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D: 10769 , PName: Shampoo, PurchaseDate: 10/1/2007, Supplier: Lush, PurchasePricePerPiece: $8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50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following data to the orders tab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2D8-F24B-4565-BF2A-BF287810E7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47920" y="2895480"/>
          <a:ext cx="6095880" cy="18288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duct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lesMan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der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lingPricePerPi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ra B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dra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7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hn Smi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/1/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1 that displays all the information from both tab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 ta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ich fields you want to be displayed using 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want to not show a certain field after choosing it, use &l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me the query as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query named query_2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query_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displays all fields in both tables, but  limit the query to the Supplier "Lush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the query using simple query wizard to select all fields from query-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uppler field, set the criteria to “Lus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check SQL by right-click and choose Show SQ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 aggregate query named query_3. Group the query using SalesPersonName and calculate the Average quantity he/she s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create Aggregate que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simple query wizard and choose only salesPersonName and quant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query in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otal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find a new row add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total and the word GroupBy is written for both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Quantity, change the word GroupBy to be Sum so that the sum of Quantity is display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to check SQ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5040" indent="-262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0725-9006-44CC-9C5E-BEDBE5D014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group.bmp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query query_4, that displays all information in table products. Then, create a new field called RevenueAmount. This should be calculated by Quantity*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Query using the simple query wiza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SQL of query_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the select statement the follow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4000" indent="-5144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…., Quantity*SellingPricePerPiece as RevenueAmoun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94932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ry_4, create a new field called Status. This should display "Profit"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, "Breakeven" if they were equal and "Loss"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write the expression in English stat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&gt;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profi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ellingPricePerPiece=PurchasePricePerPie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equ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=los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make If statem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the design view of the que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thoer field 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:IIF(SellingPricePerPiece&gt;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t”, IIF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lingPricePerPiece=PurchasePricePerPiec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”,”Loss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004-8460-4D09-9455-4B80E2738D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Next Week (T1 &amp; T2 only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on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Quiz #2 on Datab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Wednes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1 Lab 2” of Problem Solv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for TA Paul for Today sli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82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rosstab query from query_1. Let the rows show the SalesPersonName, the columns show the product name, and calculate the sum of Quantit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reat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 Wizar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b que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quer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ry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alesPersonName in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ProductName in colum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quantity as data and sum as function (on the righ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ields are required to be rows and which fields are required to be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care which function is required to be calculated; avg, sum, max, etc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B04E-3873-4E1C-BAA3-C1828E867C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ploading Data from Exc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 to the "External Data" tab and then select from the Import section Exce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E533-0D2F-4FA0-88C9-3536D0F14C4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Import_excel01.png"/>
          <p:cNvPicPr/>
          <p:nvPr/>
        </p:nvPicPr>
        <p:blipFill>
          <a:blip r:embed="rId1"/>
          <a:stretch/>
        </p:blipFill>
        <p:spPr>
          <a:xfrm>
            <a:off x="2057400" y="3276720"/>
            <a:ext cx="4952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Content Placeholder 6" descr="Import_excel02.png"/>
          <p:cNvPicPr/>
          <p:nvPr/>
        </p:nvPicPr>
        <p:blipFill>
          <a:blip r:embed="rId1"/>
          <a:stretch/>
        </p:blipFill>
        <p:spPr>
          <a:xfrm>
            <a:off x="304920" y="914400"/>
            <a:ext cx="8663040" cy="5410080"/>
          </a:xfrm>
          <a:prstGeom prst="rect">
            <a:avLst/>
          </a:prstGeom>
          <a:ln w="0">
            <a:noFill/>
          </a:ln>
        </p:spPr>
      </p:pic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3430-7E9B-4A60-B2E8-461248A678D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database named Stuf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Orders with the fields: OrderID, ProductID, SalespersonName, SalesDate, Quantity and Selling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imary ke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ProductI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personNam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 for SalesDat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new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Creat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lick on the table name to choose the design vi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riting variables Names an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unique variable to be primary k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variable primary key: choose the variable, right clic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ke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 variable is the one with yellow key to its le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re required to enter values for ID, make its type number instead of auto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37B7-E4AB-46DA-A08D-EFE5CC4F755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for Lab Quiz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table called Products with the fields ProductID, PName, PurchaseDate, Supplier and PurchasePricePerPie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1160" indent="-5144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relationships might be requir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82480" indent="-5140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o create a relationship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Database T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both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a relationship between variable A and variable 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variable A from the first table to variable B in the second 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x will appear to you with the relationship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07920" indent="-5140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that variables names are correct and then press 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69EE-2CEF-4DDB-B74E-E4CA453742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3-06T10:42:23Z</dcterms:modified>
  <cp:revision>178</cp:revision>
  <dc:subject/>
  <dc:title>CPSC 203</dc:title>
</cp:coreProperties>
</file>